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76F-03CD-47A4-829C-0B52741F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75992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C8B-47D6-436D-BD15-F3D68FFA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75992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75992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9D9-839E-4F16-A823-E2B8B297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2060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2060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75992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75992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75992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EE9-A2AD-4448-9F93-172CC745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318B-0626-4DAB-B731-C30C7681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AE5A-2CC2-4A4B-829C-DE7AA833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D653-4121-42E8-8A66-327EBDF7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A9A1-A93A-4F38-A64F-C085D474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7B01-97B5-4562-A576-11C4A9F8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1C40-7EBF-4831-9FB4-95062197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75992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7136-1917-430B-9E50-762C0792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E49-D9DF-48E9-B765-BC6437FF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75992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C247-2F1B-4DFC-B381-6ECE2AC8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75992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00C1-19A6-4EA3-A0F6-9C730ADC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75992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89FC-0FCB-4327-BC35-A282AE57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75992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75992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F013-8425-4C90-BCE2-5D53894D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2060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2060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75992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75992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75992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86D2-8683-4AAD-89E3-FA275EB8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110-841C-4A33-A67E-1A9D6103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D91-8AE1-4777-B5A9-179C297F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05E-8AB8-4FC9-8454-A0345551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532-5E8F-4EA9-8647-CD8C2F34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75992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5C3-4F3A-4F41-B43B-1E95563A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75992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DEA-D6B5-42FA-800D-AFEC6808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75992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E0A-C0E3-4DE8-B4B1-0FF68DD2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b2d1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d3481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492680"/>
            <a:ext cx="2133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497720"/>
            <a:ext cx="2895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492680"/>
            <a:ext cx="2133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2530-CF48-40D3-9BC5-F8FA4F7BAD7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74680"/>
            <a:ext cx="8229600" cy="7318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731880"/>
              <a:gd name="textAreaBottom" fmla="*/ 731880 h 7318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7407360"/>
            <a:ext cx="8229600" cy="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463760"/>
            <a:ext cx="7925040" cy="109692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4754520"/>
            <a:ext cx="6512040" cy="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b2d1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d3481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7492680"/>
            <a:ext cx="2133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7492680"/>
            <a:ext cx="2895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7492680"/>
            <a:ext cx="2133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6687-5606-43AE-8C37-F3D6701602C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youtube.com/watch?v=yNk_osZWScw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aytQJzdhILM&amp;NR=1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740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United States should avoid conflict with other countries at any c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United States should object to the policies of other countries to protect those who are threatened or harmed by them, even when our own security is at ris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United States should object to the policies of other countries only if our own security is at ris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The Soviet Unio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pic>
        <p:nvPicPr>
          <p:cNvPr id="108" name="Picture 6" descr="soviet_propaganda"/>
          <p:cNvPicPr/>
          <p:nvPr/>
        </p:nvPicPr>
        <p:blipFill>
          <a:blip r:embed="rId1"/>
          <a:stretch/>
        </p:blipFill>
        <p:spPr>
          <a:xfrm>
            <a:off x="2678040" y="1096920"/>
            <a:ext cx="3861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Soviet Unio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17: Russian Communist Rev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totalitarian state (Vladamir Len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24: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Joseph Stal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comes head of the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60154-004-B3985FCD"/>
          <p:cNvPicPr/>
          <p:nvPr/>
        </p:nvPicPr>
        <p:blipFill>
          <a:blip r:embed="rId1"/>
          <a:stretch/>
        </p:blipFill>
        <p:spPr>
          <a:xfrm>
            <a:off x="3352680" y="4022640"/>
            <a:ext cx="20797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Joseph Stali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 of Stee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spicious, cruel, ruthless, tyrann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form the Soviet Un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ustrial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-run collective fa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million dea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at Terror (1930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ge of the Communist Pa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Joseph Stali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384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bination of fear and massive propaganda kept Stalin in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talin-140508_27880t"/>
          <p:cNvPicPr/>
          <p:nvPr/>
        </p:nvPicPr>
        <p:blipFill>
          <a:blip r:embed="rId1"/>
          <a:stretch/>
        </p:blipFill>
        <p:spPr>
          <a:xfrm>
            <a:off x="5029200" y="639720"/>
            <a:ext cx="364176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Italy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pic>
        <p:nvPicPr>
          <p:cNvPr id="118" name="Picture 6" descr="ITALIAN-FASCISM_624080"/>
          <p:cNvPicPr/>
          <p:nvPr/>
        </p:nvPicPr>
        <p:blipFill>
          <a:blip r:embed="rId1"/>
          <a:stretch/>
        </p:blipFill>
        <p:spPr>
          <a:xfrm>
            <a:off x="2139840" y="1371600"/>
            <a:ext cx="432756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Italy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itarianism—direct result of the war and the peace trea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st m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ak and inept 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Benito Mussolini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384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19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asci di Combattimen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ascist Par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ht-wing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otes nationa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ised to make Italy great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ack Shirt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ght socialists and commun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Benito_Mussolini"/>
          <p:cNvPicPr/>
          <p:nvPr/>
        </p:nvPicPr>
        <p:blipFill>
          <a:blip r:embed="rId1"/>
          <a:stretch/>
        </p:blipFill>
        <p:spPr>
          <a:xfrm>
            <a:off x="5240160" y="45720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Benito Mussolini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22: forms 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l Duce” (“the leader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led government and army within a few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aws political par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ed 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ret po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th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ressed str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sed liberalism and socia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Benito Mussolini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20600"/>
            <a:ext cx="40384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ver held the same power over Italy that Stalin held over the Soviet Un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mussolini"/>
          <p:cNvPicPr/>
          <p:nvPr/>
        </p:nvPicPr>
        <p:blipFill>
          <a:blip r:embed="rId1"/>
          <a:stretch/>
        </p:blipFill>
        <p:spPr>
          <a:xfrm>
            <a:off x="533520" y="1371600"/>
            <a:ext cx="337644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Characteristics of a totalitarian state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18908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party dictatorship exerting control over all aspects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, charismatic leader often at head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control of the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police, spies, and terror to enforce the will of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ontrol the media and use of propaganda to indoctrinate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chools and youth to spread ideology to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ct censorship of artists, intellectuals, and political rivals with dissenting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53760"/>
            <a:ext cx="76230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464"/>
                </a:solidFill>
                <a:latin typeface="Garamond"/>
              </a:rPr>
              <a:t>The Coming of War</a:t>
            </a:r>
            <a:endParaRPr b="0" lang="en-US" sz="50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42640" y="2468520"/>
            <a:ext cx="655308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31-19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Germany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pic>
        <p:nvPicPr>
          <p:cNvPr id="132" name="Picture 5" descr="a55_longlive"/>
          <p:cNvPicPr/>
          <p:nvPr/>
        </p:nvPicPr>
        <p:blipFill>
          <a:blip r:embed="rId1"/>
          <a:stretch/>
        </p:blipFill>
        <p:spPr>
          <a:xfrm>
            <a:off x="2438280" y="1189080"/>
            <a:ext cx="484344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Weimar Republic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rman democ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ggled throughout the 1920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ing new 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conomic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naway inf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nted the Treaty of Versail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ldwide Great De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The Nazis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384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Socialist German Workers’ Pa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sed socialism, commu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 ethnic solidar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trotz"/>
          <p:cNvPicPr/>
          <p:nvPr/>
        </p:nvPicPr>
        <p:blipFill>
          <a:blip r:embed="rId1"/>
          <a:stretch/>
        </p:blipFill>
        <p:spPr>
          <a:xfrm>
            <a:off x="4614840" y="549360"/>
            <a:ext cx="399564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Adolph Hitler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ined the small Nazi Party after WW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on gained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in Kamp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“My Struggle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ained Germany’s trou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, political programs, ide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mmunis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J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9b2d1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Semitism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lined hatreds, plans for world do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Adolph Hitler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38480" cy="60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33: Hitler appointed chancellor of Germ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34: Führ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control of state and milit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checked by Reichst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bol of the totalitarian reg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ret po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-controlled press, education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timeline_1939_06"/>
          <p:cNvPicPr/>
          <p:nvPr/>
        </p:nvPicPr>
        <p:blipFill>
          <a:blip r:embed="rId1"/>
          <a:stretch/>
        </p:blipFill>
        <p:spPr>
          <a:xfrm>
            <a:off x="4689360" y="1554120"/>
            <a:ext cx="4024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Adolph Hitler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384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nomic policies ended de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rma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works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itical initiatives restricted free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5" descr="Nurnberg27"/>
          <p:cNvPicPr/>
          <p:nvPr/>
        </p:nvPicPr>
        <p:blipFill>
          <a:blip r:embed="rId1"/>
          <a:stretch/>
        </p:blipFill>
        <p:spPr>
          <a:xfrm>
            <a:off x="3886200" y="2160720"/>
            <a:ext cx="5029200" cy="4138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6"/>
          <p:cNvSpPr/>
          <p:nvPr/>
        </p:nvSpPr>
        <p:spPr>
          <a:xfrm>
            <a:off x="4881240" y="6492960"/>
            <a:ext cx="28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Propaganda against Je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Japa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pic>
        <p:nvPicPr>
          <p:cNvPr id="148" name="Picture 5" descr="Manchuguo Poster"/>
          <p:cNvPicPr/>
          <p:nvPr/>
        </p:nvPicPr>
        <p:blipFill>
          <a:blip r:embed="rId1"/>
          <a:stretch/>
        </p:blipFill>
        <p:spPr>
          <a:xfrm>
            <a:off x="2867040" y="1371600"/>
            <a:ext cx="367200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Japa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20s: democ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d military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men have the right to v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galized trade un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verse political pa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Japa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at Depression ended this peri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ing military power could solve economic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pan did not become a totalitarian dictato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itutional mon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Japa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384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gressive military expa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31: Manchu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37: control over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lroads, coast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pe of Nanj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ManchuManchuria"/>
          <p:cNvPicPr/>
          <p:nvPr/>
        </p:nvPicPr>
        <p:blipFill>
          <a:blip r:embed="rId1"/>
          <a:stretch/>
        </p:blipFill>
        <p:spPr>
          <a:xfrm>
            <a:off x="4419720" y="2193840"/>
            <a:ext cx="426708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The Treaty of Versailles (1919)</a:t>
            </a:r>
            <a:br>
              <a:rPr sz="4200"/>
            </a:b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map%20of%20versailles.jpg"/>
          <p:cNvPicPr/>
          <p:nvPr/>
        </p:nvPicPr>
        <p:blipFill>
          <a:blip r:embed="rId1"/>
          <a:stretch/>
        </p:blipFill>
        <p:spPr>
          <a:xfrm>
            <a:off x="380880" y="1096920"/>
            <a:ext cx="8458200" cy="695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1930s: The Decade of Aggressio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st lack all conviction and the worst are full of passionate intensity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iam Butler Ye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1930s: The Decade of Aggressio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as strong as its members’ resol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t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unifying Germanic people under one Reich (st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ar; Rhine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soli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35: Invasion of Ethiop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1930s: The Decade of Aggressio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anish Civil War (1936-193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ists (fascists) rebelled against democratic Republican govern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ists aided by Hitler and Mussoli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viet Union aids Republic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nce, Britain, U.S. remain uninvolv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Appeasement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nts concessions to a potential enemy in the hope that it will maintain pe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Li'l Hit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stria—Anschlu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detenland (w. Czechoslovak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nich Pact: “peace for our time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 months later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Garamond"/>
              </a:rPr>
              <a:t>WHY DIDN’T BRITAIN STOP HITLER?</a:t>
            </a:r>
            <a:endParaRPr b="0" lang="en-US" sz="40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345360" cy="792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2057400" y="0"/>
            <a:ext cx="497052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521000" y="0"/>
            <a:ext cx="610056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80880" y="1109520"/>
            <a:ext cx="845820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A Changed Europe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pic>
        <p:nvPicPr>
          <p:cNvPr id="93" name="Content Placeholder 3" descr="WWI.gif"/>
          <p:cNvPicPr/>
          <p:nvPr/>
        </p:nvPicPr>
        <p:blipFill>
          <a:blip r:embed="rId1"/>
          <a:srcRect l="10439" t="5821" r="11068" b="6837"/>
          <a:stretch/>
        </p:blipFill>
        <p:spPr>
          <a:xfrm>
            <a:off x="1219320" y="1317600"/>
            <a:ext cx="678168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A Changed Europe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pic>
        <p:nvPicPr>
          <p:cNvPr id="95" name="Content Placeholder 3" descr="WWI-Europe-51.gif"/>
          <p:cNvPicPr/>
          <p:nvPr/>
        </p:nvPicPr>
        <p:blipFill>
          <a:blip r:embed="rId1"/>
          <a:srcRect l="0" t="1682" r="2756" b="0"/>
          <a:stretch/>
        </p:blipFill>
        <p:spPr>
          <a:xfrm>
            <a:off x="1143000" y="1239840"/>
            <a:ext cx="708660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Dictatorship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cratic form of absolute r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ership unrestricted by law, constitutions, or other social and political factors within the sta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Totalitarianism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entieth-century phenomen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ingle party or leader controls the economic, social, and cultural lives of its peo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Characteristics of a totalitarian state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8908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party dictatorship exerting control over all aspects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, charismatic leader often at head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control of the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police, spies, and terror to enforce the will of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ontrol the media and use of propaganda to indoctrinate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chools and youth to spread ideology to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ct censorship of artists, intellectuals, and political rivals with dissenting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6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In other words…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41040"/>
            <a:ext cx="404028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ctat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2609640"/>
            <a:ext cx="404028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verning p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power come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st to democr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atorship: government without people's con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cy: government whose power comes from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404172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itari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4720" y="2609640"/>
            <a:ext cx="404172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verning p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st to 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itarianism: government controls every aspect of people's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ralism: government allows multiple lifestyles and opi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5:11:27Z</dcterms:created>
  <dc:creator>Owner</dc:creator>
  <dc:description/>
  <dc:language>en-US</dc:language>
  <cp:lastModifiedBy>hberndt</cp:lastModifiedBy>
  <dcterms:modified xsi:type="dcterms:W3CDTF">2010-03-19T13:17:19Z</dcterms:modified>
  <cp:revision>22</cp:revision>
  <dc:subject/>
  <dc:title>Slide 1</dc:title>
</cp:coreProperties>
</file>